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51C-9A73-4D3C-87D2-5C77FC5B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50A-5A1F-4208-8DB7-5FFD135B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F9D9-A3AB-4B76-81C0-A4F31104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74F-2479-4231-887B-95424CCF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9E2-4967-462B-9561-1BBD4885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410-C89B-425F-A769-692BFF0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4D3-24D6-4F4A-A6DA-65B913E1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03C-1FE5-41E2-BB10-1E934AA6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538-C7C9-4669-BA33-A8E314B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E6C-9168-4D91-9431-949D339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FC85-38EF-4D66-8845-8566B631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DBD-CBB0-4F5C-9B5F-8337D68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AB80-0E42-4B77-8E5F-4810CA3B2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1628640"/>
            <a:ext cx="4753080" cy="14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64ac4">
                        <a:alpha val="35294"/>
                      </a:srgbClr>
                    </a:gs>
                    <a:gs pos="100000">
                      <a:srgbClr val="803fa7"/>
                    </a:gs>
                  </a:gsLst>
                  <a:lin ang="5400000"/>
                </a:gradFill>
                <a:latin typeface="Book Antiqua"/>
              </a:rPr>
              <a:t>How to keep the sewage clean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190836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5229360"/>
            <a:ext cx="2246400" cy="127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bad things enters the sea it can kill the animal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3498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also can poison people who eat the shellfish which live in the poison river so don’t put pollute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907920"/>
            <a:ext cx="184284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pollutes the river like the news on 1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ay 2009 that poisons enter Parramatta River so don’t just let the poisons d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3395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24360" y="3432240"/>
            <a:ext cx="286884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56:57Z</dcterms:created>
  <dc:creator>nicholais.lang</dc:creator>
  <dc:description/>
  <dc:language>en-US</dc:language>
  <cp:lastModifiedBy>nicholais.lang</cp:lastModifiedBy>
  <dcterms:modified xsi:type="dcterms:W3CDTF">2009-05-21T03:39:13Z</dcterms:modified>
  <cp:revision>3</cp:revision>
  <dc:subject/>
  <dc:title>Slide 1</dc:title>
</cp:coreProperties>
</file>